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gif" ContentType="image/gif"/>
  <Override PartName="/ppt/media/image9.wmf" ContentType="image/x-wmf"/>
  <Override PartName="/ppt/media/image7.gif" ContentType="image/gif"/>
  <Override PartName="/ppt/media/image8.png" ContentType="image/png"/>
  <Override PartName="/ppt/media/image12.wmf" ContentType="image/x-wmf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9D1-2B0A-413C-9484-5303347F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357-7081-471B-A28C-6F211B97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0A83-5F14-4D37-AD2C-85A85B2B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2B15-3303-4D11-9328-5B8F3307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C5ACC-BE33-4807-9801-EB8F0DFE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9F489-3040-4830-9FA1-BC2E40DB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5236B-BCE3-4259-A870-88255AA6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3BB03-EF11-42D6-B909-CEA13F8A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1192E-2217-4FE2-9D8F-1600AA0C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E73CC-DCE1-463C-B5A8-8BF5E936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6FD2F-1FB6-4B60-8C43-C669F59D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C4E8-0084-4BD3-9C58-0FDB95B9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8707F-F986-4C86-92C8-0E29B364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EEF3E-122E-48E4-93B8-EB40C974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38336-53C8-4328-90BC-D08A73D8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43FE9-C572-4F01-9D48-216EDB4D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F8F6F-ED8B-4842-8D58-B6961E54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E1BD-F4A8-4BE6-B424-5CE6C20A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AE2-B477-4296-BCF2-F1E5E04B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D11B-6DE0-403D-9582-755F0701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DA34-76BD-4E0D-99F7-5FCBC976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72E-A17E-41ED-AF46-031EEEFC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A50-BF64-4592-8C84-B887A019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EA5-F111-4E33-A8CB-CA2035AF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9DDC-8E60-41AC-9FC5-7F3093F06F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02C5-7059-4984-AB08-FFAC82A8AD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lar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look at angri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g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sta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sml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26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780160" y="2817720"/>
            <a:ext cx="200016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to take up with tip of the tong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drin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e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88080" y="2957400"/>
            <a:ext cx="175896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eck ou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sign out and ta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bo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stee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 check-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Che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470560" y="3218040"/>
            <a:ext cx="2397240" cy="14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orytell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person tells stor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re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:ign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check.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che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26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862600" y="2743200"/>
            <a:ext cx="1933560" cy="219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rr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inition: to take something with perish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onyms: ta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onym: ste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llable: b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 word: r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lection : 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brar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age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tion: exited and nerv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nonyms: hap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onyms: m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llable: re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 word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ection: 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391520" y="990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5398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tter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to talk foolsh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tal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mu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 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 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19920" y="2971800"/>
            <a:ext cx="149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br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spanish word for b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b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magaz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li.b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li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b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1000080" cy="1238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343400" y="2133360"/>
            <a:ext cx="4038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acias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Spanish word for thank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thank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he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 grac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 gra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 i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59280" y="2168640"/>
            <a:ext cx="1814760" cy="1452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867280" y="3657600"/>
            <a:ext cx="15876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di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spanish word for good by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good by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he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 ad.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 ad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 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4120" y="2362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lab</cp:lastModifiedBy>
  <dcterms:modified xsi:type="dcterms:W3CDTF">2008-12-04T22:31:57Z</dcterms:modified>
  <cp:revision>8</cp:revision>
  <dc:subject/>
  <dc:title>PowerPoint Presentation</dc:title>
</cp:coreProperties>
</file>